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8AB8-B333-43C7-92FE-0B880E44E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AD40-85B1-4198-B1A2-4B3F0EA0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F735-0963-4DF1-A546-D78A004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963B-7C4A-40CA-9F1D-83E194A47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20C15-EFA1-483B-ADF1-12AC89C9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923B3-1D1C-46D7-98DC-4C1C62E7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83A7C-014F-449D-B831-4542BF3F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DEDB1-F283-435F-B086-B6F32086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10BC7-20A5-47D7-95A2-99F82F45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30DAE-69F8-44E6-862F-C7E770E5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B59E2-24DF-48D4-98A1-12C6EAC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1FB4-1518-40EC-B9B1-6399CED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EE2A6-BADC-4741-8579-324EEE6E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88D2A-0BDF-484A-B4F4-AE90446D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B9B4D-DC20-4EC5-9564-8DBF2041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06F87-F122-4782-8454-DB035213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4CE9-DFBD-455D-91E2-8F345D77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D74F-2843-4D17-81C1-D919475E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5223-5B22-45E1-8BF3-72F51C2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15B4-E194-4678-A50A-A6D3A790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3DEF-6321-4BD8-AD48-71D48368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44A2-961A-4892-B394-1DD9EA70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1C62-252B-40A5-BFD9-7CA7019C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78E5-EAAD-43BE-BCA1-D13E430B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B961-2E7D-461E-8DA6-524C21BAD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18960" y="1728720"/>
            <a:ext cx="8825040" cy="5129280"/>
            <a:chOff x="318960" y="1728720"/>
            <a:chExt cx="8825040" cy="5129280"/>
          </a:xfrm>
        </p:grpSpPr>
        <p:sp>
          <p:nvSpPr>
            <p:cNvPr id="50" name=""/>
            <p:cNvSpPr/>
            <p:nvPr/>
          </p:nvSpPr>
          <p:spPr>
            <a:xfrm>
              <a:off x="333360" y="172872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8080" y="378612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8960" y="374976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172872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8960" y="374976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172872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F3E7-8651-492E-B5FF-C6F4D9752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Формирование здорового образа жизни.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Самооценка состояния здоровья школьников по дням недели.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198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8534520" cy="59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9880" y="4572000"/>
            <a:ext cx="1524240" cy="2209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4572000"/>
            <a:ext cx="2971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лянская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уламбаева Ма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ехедов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исее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80060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 Вилючин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00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28600" y="895320"/>
          <a:ext cx="8762760" cy="4819680"/>
        </p:xfrm>
        <a:graphic>
          <a:graphicData uri="http://schemas.openxmlformats.org/drawingml/2006/table">
            <a:tbl>
              <a:tblPr/>
              <a:tblGrid>
                <a:gridCol w="2438280"/>
                <a:gridCol w="2971800"/>
                <a:gridCol w="3352680"/>
              </a:tblGrid>
              <a:tr h="8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обенности психосоциальных усло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лагоприят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благоприят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недельни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торни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ед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етвер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ятн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бо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кресен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09480" y="152280"/>
          <a:ext cx="7925040" cy="632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280"/>
                    <a:ext cx="792504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циальное условия жизни старшеклассников в основном благоприятные (до 76%), показатели мало изменяются в течение недели, за исключением отдельных ситуаций: так, нам встречались анкеты, где самооценка психосоциальных условий жизни резко падала в воскресенье, что, на наш взгляд, свидетельствует о сложной обстановке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ует то обстоятельство, что у основной массы школьников психосоциальное окружение благоприятное и в школе и дома; наиболее удачным в этом отношении оказался четверг; а особо тяжёлых дней не отмечается вовсе, лишь в среду отмечается наибольшее падение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5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2280" y="304920"/>
          <a:ext cx="8839440" cy="5790960"/>
        </p:xfrm>
        <a:graphic>
          <a:graphicData uri="http://schemas.openxmlformats.org/drawingml/2006/table">
            <a:tbl>
              <a:tblPr/>
              <a:tblGrid>
                <a:gridCol w="2514600"/>
                <a:gridCol w="3510000"/>
                <a:gridCol w="2814840"/>
              </a:tblGrid>
              <a:tr h="569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Режим д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оответствуе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соответствуе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неде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тор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етвер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ят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кресен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554120" y="0"/>
          <a:ext cx="56530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0"/>
                    <a:ext cx="5653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нализе самооценки режима дня становится очевидно, что отношение к его выполнению со стороны ребят безответственное: только в лучшем случае 40% (в отдельные дни – в пятницу) учеников поддерживают режим труда и отдыха, а в воскресенье о нём вспоминают лишь 26% опрош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ажно дела обстоят и к середине недели: 70% ребят в среду не уделяют должного внимания организации своего дня. В течение недели этот показатель незначительно колеблется, но ясно, что из всех 3-х исследуемых нами показателей этот наиболее неблагоприят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25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 Black"/>
              </a:rPr>
              <a:t>Итоги:</a:t>
            </a:r>
            <a:endParaRPr b="1" lang="en-US" sz="4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ное нами исследование показало, что школьники способны проводить самонаблюдения, анализировать поступки и образ жизни с точки зрения их влияния на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% школьников оценивают уровень своего здоровья как низкий и это очень удручающий факт, который необходимо учитывать в дальнейшей работе по популяризации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дальнейшее обучение школьников основам валеологической грамо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умаем, что проведенная работа заставит задуматься школьников над своим режимом дня, состоянием здоровья и значительно улучшит их представление о правильном образе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213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Научить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ценивать функциональное состояние организма, используя субъективные и объективные показатели здоровья. На основании анализа результатов наблюдений </a:t>
            </a:r>
            <a:r>
              <a:rPr b="0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выяв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висимость состояния здоровья от особенностей психосоциальных условий и режима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Ход работы: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250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оей работе мы использовали разработки доктора педагогических наук, профессора МПГУ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.М.Наз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2670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ff"/>
                </a:solidFill>
                <a:latin typeface="Arial"/>
              </a:rPr>
              <a:t>Анкета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61800" y="228600"/>
          <a:ext cx="87822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28600"/>
                    <a:ext cx="8782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57200" y="5562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ояние высокий – 5-7 баллов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ний – 4-3 балла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изкий – 3 и ме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228600"/>
          <a:ext cx="8782200" cy="632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782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Количество опрошенных: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42840" y="1828800"/>
            <a:ext cx="5791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66ff"/>
                </a:solidFill>
                <a:latin typeface="Arial"/>
              </a:rPr>
              <a:t>67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Результаты исследования:</a:t>
            </a:r>
            <a:endParaRPr b="1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371600"/>
          <a:ext cx="8001000" cy="4992840"/>
        </p:xfrm>
        <a:graphic>
          <a:graphicData uri="http://schemas.openxmlformats.org/drawingml/2006/table">
            <a:tbl>
              <a:tblPr/>
              <a:tblGrid>
                <a:gridCol w="2612880"/>
                <a:gridCol w="1714680"/>
                <a:gridCol w="1838160"/>
                <a:gridCol w="18352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стояние здоров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из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неде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тор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етвер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ят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кресен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ff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7010280" y="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6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533520"/>
          <a:ext cx="8839440" cy="55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839440" cy="55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При анализе полученных данных очевидно, что состояние здоровья стабильно оценивают как высокое примерно 45-42% учащихся, как низкое – 20-2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По дням недели самооценка изменяется незначительно и лишь к выходным она явно повышается и падает в понедельник и втор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6:07:21Z</dcterms:created>
  <dc:creator>Герой нашего времени</dc:creator>
  <dc:description/>
  <dc:language>en-US</dc:language>
  <cp:lastModifiedBy>Админ</cp:lastModifiedBy>
  <dcterms:modified xsi:type="dcterms:W3CDTF">2007-01-20T05:37:43Z</dcterms:modified>
  <cp:revision>14</cp:revision>
  <dc:subject/>
  <dc:title>Слайд 1</dc:title>
</cp:coreProperties>
</file>